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8F7-6009-492E-90CE-70F2FDC3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230-25F4-48BE-9E8B-3FCEBCDF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378-5801-4131-9883-9E790961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440-E257-4787-834F-E73E0C67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309-DFE8-4DB9-BA28-930E90D5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E83-89E9-40F6-95F7-CAB2E434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CB5-146F-4830-88BF-D0F19DB6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7D2-1983-4F9A-8C6C-3874E29B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A4F-1DB4-4051-9F43-7944B27A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74C-BF4E-4AF9-B7E0-2F3CA258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190-C5E4-4565-9AE2-80238446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5CB-89EE-49EC-B793-B4502F66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464B-B062-4C4E-B026-0D5569794A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ASE MANAGEMENT, PRESENTATION, DISCUSSION AND SHARING OF INFORMATION ON COMPLICATED SKIN AND SOFT TISSUE INFEC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JONATHAN R. MALABANAN,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EPARTMENT OF SUR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OSPITAL NG MAYN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52840" y="685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INFLAMM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609480"/>
            <a:ext cx="22100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1143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561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9080" y="1676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167652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4480" y="205740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UNCOMPLIC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057400"/>
            <a:ext cx="22096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240" y="20574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COMPLIC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2057400"/>
            <a:ext cx="24382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280" y="2855880"/>
            <a:ext cx="151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SK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-EPIDERM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-DERM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79520" y="2895480"/>
            <a:ext cx="17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FOLLICUL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2960" y="289548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FURUN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124080"/>
            <a:ext cx="6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S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7800" y="419112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SUBCUTANE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TISS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895480"/>
            <a:ext cx="167616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191120"/>
            <a:ext cx="19810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9000" y="441972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CELLUL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84240" y="422748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SUBCUTANE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ABS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2680" y="5105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FAS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029200"/>
            <a:ext cx="990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11360" y="449568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NECROTIZ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FASC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0400" y="5715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71500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07280" y="567540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PYOMYOS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00840" y="56754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MYONECR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276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809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9000" y="571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MYOS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666880"/>
            <a:ext cx="16765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3886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876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3581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LINICAL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920" y="1600200"/>
          <a:ext cx="8610480" cy="4010040"/>
        </p:xfrm>
        <a:graphic>
          <a:graphicData uri="http://schemas.openxmlformats.org/drawingml/2006/table">
            <a:tbl>
              <a:tblPr/>
              <a:tblGrid>
                <a:gridCol w="2792160"/>
                <a:gridCol w="2792520"/>
                <a:gridCol w="30258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CLI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DIAGNO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DEGREE OF CERTAIN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TREAT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DIAGNO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FOURNIER’S GANGRE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9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SURG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SCROTAL ABS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SURG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O I NEED A PARACLINICAL DIAGNOSTIC PROCEDURE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N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 AM QUITE CERTAIN OF M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T WILL NOT CHANGE MY TREATMENT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GOALS OF TREAT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ESOLUTION OF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REVENT RECURRENCE OF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E-TREATMENT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3520" y="1295280"/>
          <a:ext cx="8153280" cy="4927680"/>
        </p:xfrm>
        <a:graphic>
          <a:graphicData uri="http://schemas.openxmlformats.org/drawingml/2006/table">
            <a:tbl>
              <a:tblPr/>
              <a:tblGrid>
                <a:gridCol w="4952880"/>
                <a:gridCol w="320040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DIAGNO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FOURNIER’S GANGRE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90% DEGREE OF </a:t>
                      </a: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CERTAIN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SCROTAL ABS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10% OF CERTAIN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TREATMENT OP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685800"/>
          <a:ext cx="8458200" cy="7067520"/>
        </p:xfrm>
        <a:graphic>
          <a:graphicData uri="http://schemas.openxmlformats.org/drawingml/2006/table">
            <a:tbl>
              <a:tblPr/>
              <a:tblGrid>
                <a:gridCol w="1838520"/>
                <a:gridCol w="1604880"/>
                <a:gridCol w="1719360"/>
                <a:gridCol w="1457280"/>
                <a:gridCol w="183816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TREA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O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BENEF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AVAIL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SURG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Radical Wound Debribement plus IV Antibio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75% Success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Blee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Risk of Ope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Allergy to parenteral Antibio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PF= 25- 50 th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Antibiotic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Pen G= P815 per 5 M un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Metro= P350 per v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Avail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SURG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Radical Wound Debribement plus IV Antibiotics pl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Hyperbaric Oxy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Success Rate 70- 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Blee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Risk of Ope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Allergy to parenteral Antibio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Not Avail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648320" y="63244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6248520"/>
            <a:ext cx="45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</a:rPr>
              <a:t>PRE-TREATMENT PREPA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PSYCHOSOCIAL 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SCREENING FOR MEDICAL 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- OPTIMIZE PHYSICAL CONDITION OF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- ADEQUATE 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- ANALGESICS FOR PAIN AND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TREATMENT PLAN: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Emergency Radical Wound Debrib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Parenteral Antibiotic with coverage involving Streptococcus pyoge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benzylpenicillin 100,000 IU/kg i.v.  every 6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And Metronidazole 500 mg Q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Tetanus Prophylaxis 6,000 units TIM ( ) A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Tetanus toxoid .5 ml T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OPERATIVE TECHNIQ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Patient supine under S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Asepsis, Antisep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Sterile drapes pl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Longitudinal scrotal incision carried down from skin to dartos fas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Intraop Findings no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95960" y="1600200"/>
            <a:ext cx="3543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Intraop Finding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Necrotic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Sub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Fas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Normal tissue overlying necrotic tissue over the perineal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Foul smelling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95960" y="1371600"/>
            <a:ext cx="3695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C.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63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ANDACAN, MAN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Radical debridement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NSS Flus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Correct Instrument, Needle, and Sponge 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Wet to Dry sterile d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295960" y="1828800"/>
            <a:ext cx="32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adical Wound Debrib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MEDIC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Penicillin G 5 M units TIV q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Metronidazole 500 mg Q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Ketorolac 75 mg TIV q8 for pain and sw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Intermediate Insul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</a:rPr>
              <a:t>POST-TREATMENT DIAGNOSI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Fournier’s Gangrene S/P Radical Wound Debrib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urse in the War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 antibiotics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equate p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hours post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54080" y="190440"/>
          <a:ext cx="8835840" cy="6438960"/>
        </p:xfrm>
        <a:graphic>
          <a:graphicData uri="http://schemas.openxmlformats.org/drawingml/2006/table">
            <a:tbl>
              <a:tblPr/>
              <a:tblGrid>
                <a:gridCol w="3138480"/>
                <a:gridCol w="3641760"/>
                <a:gridCol w="2055600"/>
              </a:tblGrid>
              <a:tr h="2013120"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use of Dea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thophysiologic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erval between onset &amp; dea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mediate Cau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ptic sho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h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cedent Cau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p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h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nderlying Cau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urnier’s Gangre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24 h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 factors contributing to dea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/P Hemorrhoidecto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080" marR="82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haring of Inform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urnier’s gangren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olymicrobial necrotizing fasciitis of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erineal- 2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erirectal-33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genital area-4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at extend rapidly along fascial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lanes to involve the groin, thighs,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and abdominal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According to CDC, 3/10,000 patient’s are diagnosed with Fournier’s Gangr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x: M:F of 10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Age: Mostly &lt;3 months and aged 30- 60 y.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</a:rPr>
              <a:t>Predisposition to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Disea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iabetes Mellitus- 6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Chronic Alcoholism-25-5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mmunosup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Cigarette Sm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tiology and Pathogene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olymicrobial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Mixed aerobic and anaerobic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e701"/>
                </a:solidFill>
                <a:latin typeface="Arial Narrow"/>
              </a:rPr>
              <a:t>Escherichia coli, Bacteroides, Clostridia, Staphylococci, Enterococci, Proteus and Pseudom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HIEF COMPLAI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welling, scrotal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Common colorectal sources of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perirectal, perianal, ischiorectal abs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perforation due to inflammatory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neoplastic disease, instrumentation or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egardless of portal of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Local infection causes marked inflammatory reaction that extends to the deep fascial pl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Progresses to obliterative endarteritis and local isch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Direction of disease spread determined by the attachments of various fascial planes in the pelvis and  perine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Testes, epidydymes, bladder, and rectum are spared from necrosis because of the separate nonperineal blood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Mortality rates ranging from 20-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High morbidity exists among surviv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M/M increase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advanced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primary anorectal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delayed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shock or sepsis at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renal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greater disease ex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 Narrow"/>
              </a:rPr>
              <a:t>immunosup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rue surgical emergency that is rapidly progressive and potentially let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Once recognized: urgent surgical intervention with aggressive resusc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igh dose parenteral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Broad spectrum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ampisulbactam, ticarcillin/clavulanate, piperacillin/tazobactam, or imipinem, penicilinase-resistant, synthetic penicillin plus clindamycin plus antipseudomonal aminoglyco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Ameh EA, Dauda MM, Sabiu L, et. al. Fournier’s gangrene in neonates and infants. Eur J. Pediatr Surg 2004 Dec. 14 (6): 418-2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Basoglu M, et. al. : Fournier’s gangrene: review of 15 cases. Am Surg 1997Nov; 63(11)1019-2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Capeeli, TS, Schelfeffer M. Gerber GS: The use of hyperbaric oxygen in urology. J Urol 1999 Sept; 162 (3  Pt 1): 647-5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Eke, N. Fournier’s gangrene: a review of 1726 cases, BJS 2000; 87(6): 718-72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Pathy R, Smith AD . Gangrene and Fournier’s gangrene. Urol Clin North Am 1992; 19: 149-6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ingul, JA, Joson, RJ, Needle Aspiration vs. Surgical Drainage for Uncomplicated cutaneous abscess; OMMC; Manila Philipp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CQ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nier’s gangrene is correctly describ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n abrupt, rapidly progressive, gangrenous infection of the extremities, genitalia, perineum or abdominal 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 lethal, rapidly progressive soft tissue infection caused by microaerophilic streptococ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progressive soft tissue infection caused by symbiosis of anaerobic streptococcus and staphylococ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soft tissue infection of external genitalia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</a:rPr>
              <a:t>HISTORY OF PRESENT ILLNES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0  DAYS PTC </a:t>
            </a:r>
            <a:r>
              <a:rPr b="1" lang="en-US" sz="2000" spc="-1" strike="noStrike">
                <a:solidFill>
                  <a:srgbClr val="ffe701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 SWELLING AND ERYTHEMA OF THE  SCROTAL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PAIN AND TENDER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CRUSTING SKIN LE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(-) CONSULT OMMC O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1 DAY PTC</a:t>
            </a:r>
            <a:r>
              <a:rPr b="1" lang="en-US" sz="2000" spc="-1" strike="noStrike">
                <a:solidFill>
                  <a:srgbClr val="ffe701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 INCREASED SEVERITY OF SWELLING , ERYTHEMA,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        PAIN AND TENDERNESS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FEVER AND CH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(+) CONSULT OMMC SURGERY 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nier’s gangrene is correctly describ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a. an abrupt, rapidly progressive, gangrenous infection of the extremities, genitalia, perineum or abdominal 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 lethal, rapidly progressive soft tissue infection caused by microaerophilic streptococ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progressive soft tissue infection caused by symbiosis of anaerobic streptococcus and staphylococ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soft tissue infection of external genitalia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CQ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Which of the following correctly describes necrotizing fascit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It is caused by an exotoxin produced by staphylococcal infection of nasopharyn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It is thought to be an immunologic reaction to certain drugs such as sulfonamides, phenytoin and barbitu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It is a defect in terminal follicular epithel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It is an abrupt rapidly progressive , gangrenous infection of external genitalia, perineum or abdominal wa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Which of the following correctly describes necrotizing fascit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It is caused by an exotoxin produced by staphylococcal infection of nasopharyn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It is thought to be an immunologic reaction to certain drugs such as sulfonamides, phenytoin and barbitu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It is a defect in terminal follicular epithel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It is an abrupt rapidly progressive , gangrenous infection of external genitalia, perineum or abdominal wa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C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 classification of Fournier’s gangrene is based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tissue phase affected and extent of inva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anatomic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causative path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degree of extent to muscle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1,2,3 an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1 and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3 an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1, 2, 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1,2,3 an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1 and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3 an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. 1, 2,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risk factors for development of necrotizing soft tissue infection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Malnu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C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1,2,3 an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1 and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3 an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1, 2, 3 an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A. 1,2,3 an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1 and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3 an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1, 2, 3 an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PAST MEDICAL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- HPN X 20YRS, Metoprolol 50 mg tab 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- (+) 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FAMIL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- UNREMARK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PERSONAL/SOCIAL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- SMOKER, 25 pack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-NON- ALCOHOLIC BEVERAGE DRIN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HYSICAL EXAMIN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701"/>
                </a:solidFill>
                <a:latin typeface="Arial"/>
              </a:rPr>
              <a:t>GENERAL: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 CONSCIOUS, COHERENT, NIC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BP: 130/90 CR= 90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RR=24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T=38.9     WT= 57 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701"/>
                </a:solidFill>
                <a:latin typeface="Arial"/>
              </a:rPr>
              <a:t>HEENT: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 PINK PALPEBRAL CONJUNCTIVA, ANICTERIC SCLERA, NO TPC, (-) CLA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701"/>
                </a:solidFill>
                <a:latin typeface="Arial"/>
              </a:rPr>
              <a:t>CHEST/LUNGS: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SCE, NO RETRACTIONS, CLEAR BREATH S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701"/>
                </a:solidFill>
                <a:latin typeface="Arial"/>
              </a:rPr>
              <a:t>HEART: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 ADYNAMIC PRECORDIUM, NRRR, NO MURM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HYSICAL EXAMIN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Perineum: </a:t>
            </a: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(+) erythematous swelling scrotal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crusting skin lesion of the scro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Tender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Foul smelling d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DRE: (+) hemorrhoidectomy site good sphincteric tone, tenderness Right anterolateral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733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ALIENT FEATUR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63/M, 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2. (+) erythematous swelling on the scrotal area, crusting skin lesion of the scro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Tende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Foul smelling d/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3. FEVER AND CH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6880" y="380880"/>
            <a:ext cx="35053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4479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914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447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447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91628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INFLAMM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905120"/>
            <a:ext cx="22096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19051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NON-INFLAMM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1828800"/>
            <a:ext cx="28954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2286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34290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10920" y="27543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TUM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666880"/>
            <a:ext cx="11430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3200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8390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35760" y="373392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BEN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3733920"/>
            <a:ext cx="10666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4240" y="3733920"/>
            <a:ext cx="15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MALIGN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3733920"/>
            <a:ext cx="16761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5080" y="48117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64000" y="4800600"/>
            <a:ext cx="1131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34320" y="4811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14160" y="46836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SCROTAL 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380880"/>
            <a:ext cx="35053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4479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914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1447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1447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91628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INFLAMM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905120"/>
            <a:ext cx="22096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19051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NON-INFLAMM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1828800"/>
            <a:ext cx="28954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2286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34290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10920" y="27543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TUM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2666880"/>
            <a:ext cx="11430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3200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390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35760" y="373392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BEN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3733920"/>
            <a:ext cx="10666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4240" y="3733920"/>
            <a:ext cx="15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MALIGN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733920"/>
            <a:ext cx="16761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75080" y="48117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64000" y="4800600"/>
            <a:ext cx="1131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34320" y="4811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12408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RUB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560" y="37339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D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920" y="44197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TU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560" y="51055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CAL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0:20:07Z</dcterms:created>
  <dc:creator>Rubi Ann Claire D. Chan</dc:creator>
  <dc:description/>
  <dc:language>en-US</dc:language>
  <cp:lastModifiedBy>Surgery</cp:lastModifiedBy>
  <dcterms:modified xsi:type="dcterms:W3CDTF">2007-01-30T13:08:22Z</dcterms:modified>
  <cp:revision>53</cp:revision>
  <dc:subject/>
  <dc:title>CASE PRESENTATION AND DISCUSSION ON UNCOMPLICATED SKIN AND SOFT TISSUE INFECTIONS</dc:title>
</cp:coreProperties>
</file>