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9530-5F09-4695-9EAF-F5653DC26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6CB-FCC1-40FF-B8DE-4C5321BD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195-AA5C-4F14-8714-7AE462DCF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2B54-C6D2-48E6-A8D4-3AE39598A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C7C-755C-459D-8D70-4F389D67E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09C-48A0-4C92-8586-E6320C22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E5A-17B4-474B-98FB-0A95DCEE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2060-C1BF-4396-94F9-B34F7C83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E4DF-8A93-4A5C-B1D7-21216EAA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9BE-C007-463C-8AB9-4A36ADD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1EA-F80D-4065-8E71-90C4EB7D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C6C2-9EA9-4B18-8D8C-00E7B74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>
            <a:alpha val="8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C7E4-9064-41B9-94BD-33E62CF75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alibri"/>
              </a:rPr>
              <a:t>Debate on:</a:t>
            </a:r>
            <a:br>
              <a:rPr sz="4400"/>
            </a:br>
            <a:r>
              <a:rPr b="0" lang="en-US" sz="4400" spc="-1" strike="noStrike">
                <a:solidFill>
                  <a:srgbClr val="ffff66"/>
                </a:solidFill>
                <a:latin typeface="Calibri"/>
              </a:rPr>
              <a:t>PRE-OPERATIVE ROUTINE LABORATORY EXAM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bahug, Martin Jose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ruz, Haid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nzales, Rober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stonilo, Edw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brielle, Al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labanan, Jonath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Value of routine preoperative chest x-rays: a meta-analysis.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Archer C, Levy AR, McGregor M. Can J Anaesth 1993 Nov;40(11):1022-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results of this meta-analysis indicate that </a:t>
            </a:r>
            <a:r>
              <a:rPr b="0" lang="en-US" sz="3600" spc="-1" strike="noStrike">
                <a:solidFill>
                  <a:srgbClr val="ffff66"/>
                </a:solidFill>
                <a:latin typeface="Calibri"/>
              </a:rPr>
              <a:t>only 0.1% of pre-operative chest x-rays that are routinely performed on European and North American patients provide information that affects patient treatment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On average, routine pre-operative chest x-rays detected abnormalities in 10% of patients. Only in 1.3% of films, though, the abnormality was unexpected, but its finding resulted in a change of treatment in only 0.1 of patient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authors concluded that the costs of routine chest x-rays are so high, and the likely benefits so small, that its use is no longer justified in patients who have received a careful anamnesis and clinical evaluation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Routine preoperative testing: a systematic review of the evidence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unro J, Booth A, Nicholl J. Health Technol Assess 1997;1(12):i-iv; 1-62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Value of different routine pre-operative test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est x-ray - the results of performing routine pre-operative tests lead to a change in clinical patient management in 0% to 2.1% of patie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 following are Royal College Of Radiologists Recommendations For Use Of Preoperative Chest Radiograms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1. Patients  with  acute respiratory infections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2. Patients  with possible  metastasis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3. Patients with suspected or established cardio-respiratory disease  who have not had a chest radiograph in the last twelve  months.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4. Recent immigration from countries with T.B. who have not had  chest  X RAY in previous twelve month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       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5. Traum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Electrocardiography - 0% to 2.2% . Routine preoperative ECG'S are unnecessary in children unless there are clinical symptoms of heart diseases or heart disease is suspected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mplete blood count  - 0.1% to 2.7%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ite blood cells test / tests of coagulation/ serum  biochemistry - rarely lead to changes in patient trea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rinalysis - 0.1% to 2.8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eoperative laboratory testing: should any tests be "routine" before surgery?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cpherson DS. Med Clin North Am 1993 Mar;77(2):289-308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ny routine test performed in patients admitted for elective surgery is unjustified, since the percentage of patients who will have abnormal test results is about 0.1-2%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re is little evidence indicating that the abnormality detected by the test will have an adverse impact on the surge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Unnecessary testing may lead physicians to pursue and treat</a:t>
            </a:r>
            <a:r>
              <a:rPr b="0" lang="en-US" sz="36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borderline and false-positive laboratory abnormalit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66"/>
                </a:solidFill>
                <a:latin typeface="Calibri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OUTINE TEST/WORK-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ose that are performed in apparently healthy individuals without indications from patient's clinical history and examination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ractice Poin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Routine preoperative screening of healthy patients undergoing elective surgery is ineffective, costly and may harm patients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ssessments provide an opportunity to reduce perioperative morbidity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Investigations can only be complimentary to and cannot replace a good clinical history and physical examination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Although screening patients to uncover occult disease appears logical, in reality it has resulted in excessive expenditure with limited benef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Especially in a developing country like ours where the majority of the population is not covered by medical insurance  cost factors to the patient should be of major consideration 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05280" indent="-3052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Shortcomings of doing routine laboratory test on healthy individuals without co-morbidities prior to an elective operation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ey can detect abnormalities which may not necessarily improve patient care or outcom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an be inefficient in screening asymptomatic diseases e.g.: normal ECG does not preclude IH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nnecessary testing  may lead physician to pursue and treat borderline and false positive lab abnormalities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Unnecessary tests can increase cost to the patie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edico-legal liability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"Routine" preoperative studies. Which studies in which patients?</a:t>
            </a: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Marcello PW, Roberts PL.  Surg Clin North Am 1996 Feb;76(1):11-2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3123720"/>
            <a:ext cx="792468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60% of routine tests conducted on patients in preparation of their surgery are unnecessary and add an extra $18 billion to the annual health care bill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 addition, unnecessary tests cause harm resulting from complications associated with the testing procedure, or with the unnecessary treatment of patients who receive a false positive test resul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necessary preoperative investigations: evaluation and cost analysis.</a:t>
            </a:r>
            <a:br>
              <a:rPr sz="4400"/>
            </a:br>
            <a:r>
              <a:rPr b="0" lang="en-US" sz="2700" spc="-1" strike="noStrike">
                <a:solidFill>
                  <a:srgbClr val="ffffff"/>
                </a:solidFill>
                <a:latin typeface="Calibri"/>
              </a:rPr>
              <a:t>Allison JG, Bromley HR. Am Surg 1996 Aug;62(8):686-9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sults of this study indicate that two-thirds of the tests patients undergo in preparation of their surgery are </a:t>
            </a:r>
            <a:r>
              <a:rPr b="0" lang="en-US" sz="3600" spc="-1" strike="noStrike">
                <a:solidFill>
                  <a:srgbClr val="ffff66"/>
                </a:solidFill>
                <a:latin typeface="Calibri"/>
              </a:rPr>
              <a:t>UNNECESS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Calibri"/>
              </a:rPr>
              <a:t>Only one-third of tests had clinical indications and was therefore deemed appropriat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The cost of inappropriate tests was estimated at $47 to $80 per patient. The authors emphasize the need of changing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66"/>
                </a:solidFill>
                <a:latin typeface="Calibri"/>
              </a:rPr>
              <a:t>obsolete practic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1T21:05:05Z</dcterms:created>
  <dc:creator>Department of Surgery</dc:creator>
  <dc:description/>
  <dc:language>en-US</dc:language>
  <cp:lastModifiedBy>Department of Surgery</cp:lastModifiedBy>
  <dcterms:modified xsi:type="dcterms:W3CDTF">2007-02-21T22:39:39Z</dcterms:modified>
  <cp:revision>10</cp:revision>
  <dc:subject/>
  <dc:title>Debate on: PRE-OPERATIVE ROUTINE LABORATORY EXAMINATION</dc:title>
</cp:coreProperties>
</file>