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346E-AE84-42B1-9570-6C965658F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AFB4-B59E-4944-BE0C-C082AD734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38F0-CF01-44F3-81CA-82A4FE026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E188-C363-4A30-830C-6D3700509F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EDDD-6DB8-45E9-979F-82F0EF4C4A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5328-1FC1-48CA-B9C4-4C73526CF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1EFE-0FAC-4F92-98A0-5A1CB9301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8E2E-C9D8-4DA3-9087-73E978C8E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B0E5-0763-423F-BB44-9242238C3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720B-0E4A-40D9-B7D4-2F510EE3A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A90E-DBCF-4267-92E5-A328B2CFC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BF05-A3EB-4CC4-BC75-DD48ACD52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181120" y="5866920"/>
            <a:ext cx="358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nnis Stevens M.D. et al. Skin and Soft Tissue Infections. Volume III. Issue 2- October 199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alth-Process-Evidence-based Clinical Practice Guidelines f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kin &amp; Soft Tissue Infection(1-25-07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2259000" y="3875040"/>
            <a:ext cx="445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elle Galang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nathan Malabanan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reliable signs and symptoms (more than 90% certainty) that will indicate that a patient has a non- necrotic skin and soft tissue infec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. Viability of tissues= capacity for survival (www.wikipedia.or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indications for surgical treatment in patients with skin and soft tissue inf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ce of Necrotic Tiss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nditions suggest that a patient with skin and soft tissue infection do not need surge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ce of Necrotic 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9. What are the goals of treatment for the following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rotic Skin and Soft Tissue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Necrotic Skin and Soft Tissue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REATMENT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rotic Skin and Soft Tissue Infe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Remove necrotic tiss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Prevent the spread of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REATMENT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- necrotic Skin and Soft Tissue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Resolution of Infe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Prevent the spread on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is the most cost-effective operative treatment for the following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rotic Skin and Soft Tissue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necrotic Skin and Soft Tissue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crotic Skin and Soft Tissue Infect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bridement of Necrotic Tiss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microbial therap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Non- necrotic Skin and Soft Tissue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microbial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REATMENT OPTION for Non- necrotic Skin and Soft Tissue Infe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306440"/>
          <a:ext cx="8229600" cy="3694320"/>
        </p:xfrm>
        <a:graphic>
          <a:graphicData uri="http://schemas.openxmlformats.org/drawingml/2006/table">
            <a:tbl>
              <a:tblPr/>
              <a:tblGrid>
                <a:gridCol w="1788840"/>
                <a:gridCol w="1560600"/>
                <a:gridCol w="1673280"/>
                <a:gridCol w="1417680"/>
                <a:gridCol w="178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BIO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%-98.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1-86.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5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8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3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our operational concept of “skin &amp; soft tissue infecti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finition of “infec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n- Invasion by and multiplication of pathogenic microorganisms in a bodily part or tissue, which may produce subsequent tissue injury and progress to overt disease through a variety of cellular or toxic mech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REATMENT for Necrotic Skin and Soft Tissue Infec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76520"/>
          <a:ext cx="8229600" cy="3465360"/>
        </p:xfrm>
        <a:graphic>
          <a:graphicData uri="http://schemas.openxmlformats.org/drawingml/2006/table">
            <a:tbl>
              <a:tblPr/>
              <a:tblGrid>
                <a:gridCol w="1789200"/>
                <a:gridCol w="1563480"/>
                <a:gridCol w="1670040"/>
                <a:gridCol w="1417680"/>
                <a:gridCol w="1789200"/>
              </a:tblGrid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und Debridement and  Antibio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- 90% S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ee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of Ope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ergy to parenteral Antibio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nis Stevens M.D. et al. Skin and Soft Tissue Infections. Volume III. Issue 2- October 1996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ulitis and superficial infections. In: Principles and Practice of Infectious Diseases. New York: Churchill Livingstone, 1990:796-807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tridial infections. In: Atlas of Infectious Diseases. Philadelphia: 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our operational concept of “skin &amp; soft tissue infecti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finition of “skin and soft tissu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- epidermis &amp; de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- connective tissues, tendon, ligament, muscle, nerves, vess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re skin and soft tissue infection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necr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ized Nec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e Necr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are skin and soft tissue infection classifi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rotic= latin word; causing to die; The death of cells or tissues from severe injury or disease, especially in a localized area of the body. Causes of necrosis include inadequate blood supply (as in infarcted tissue), bacterial infection, traumatic injury, and hyperthermia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 necrotic= viable tissues without evidence of tissue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the proposed causes of necrotic skin &amp; soft tissue infec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adequate blood supp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rial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umatic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perther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the proposed causes of non- necrotic skin &amp; soft tissue infec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rial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umatic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perther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45561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724280" y="2133720"/>
            <a:ext cx="17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IZED NECR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726240" y="205740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FFUSE NECR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41280" y="2855880"/>
            <a:ext cx="151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EPIDERM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DERM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2279520" y="2895480"/>
            <a:ext cx="173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RMAT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YSEPE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LLICUL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78280" y="28954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YODERM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T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UN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UN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7621560" y="31240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307800" y="419112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CUTANE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SS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304920" y="2895480"/>
            <a:ext cx="167616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04920" y="4191120"/>
            <a:ext cx="19810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2439000" y="441972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LUL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4584240" y="422748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CUTANE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S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7003080" y="4227480"/>
            <a:ext cx="18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NGREN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LUL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382680" y="5105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S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380880" y="5029200"/>
            <a:ext cx="990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6858720" y="495288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CROTIZ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SC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30400" y="5715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228600" y="571500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4607280" y="567540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YOMYOS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6900840" y="56754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ONECR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33"/>
          <p:cNvSpPr/>
          <p:nvPr/>
        </p:nvSpPr>
        <p:spPr>
          <a:xfrm>
            <a:off x="1828800" y="3276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34"/>
          <p:cNvSpPr/>
          <p:nvPr/>
        </p:nvSpPr>
        <p:spPr>
          <a:xfrm>
            <a:off x="1447920" y="3809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2439000" y="571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OS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on examples of Skin and Soft Tissue Infection (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ennis Stevens M.D. et al. Skin and Soft Tissue Infections. Volume III. Issue 2- October 1996.)</a:t>
            </a:r>
            <a:br>
              <a:rPr sz="4000"/>
            </a:b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2362320" y="2133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NECRO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reliable signs and symptoms (more than 90% certainty) that will indicate that a patient has a necrotic skin and soft tissue infec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9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- viability of t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3:23:06Z</dcterms:created>
  <dc:creator>Surgery</dc:creator>
  <dc:description/>
  <dc:language>en-US</dc:language>
  <cp:lastModifiedBy>John</cp:lastModifiedBy>
  <dcterms:modified xsi:type="dcterms:W3CDTF">2007-02-23T12:43:45Z</dcterms:modified>
  <cp:revision>112</cp:revision>
  <dc:subject/>
  <dc:title>Health-Process-Evidence-based Clinical Practice Guidelines Acute Abdomen </dc:title>
</cp:coreProperties>
</file>