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4891-6CDE-4F9D-8BB1-23EF31D60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879B-7D45-4265-BEFA-79138D58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4F32-909D-4741-AC24-87B3FFDAB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F03C-ADBA-4EEF-8766-460726B6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76DA-04A2-4F6A-A3E9-A6412DE8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3AD7-8F93-4FAB-BCE3-F8804854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4E5E-8E1A-4E98-828B-59BF62A5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129D-926A-4D56-873B-6F18E349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3EAC-7420-4712-96A1-F7799F6B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E47C-C576-4837-923D-DF8C86D5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BFF5-0F22-4EEE-9F36-5194CD74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32EC-2C0E-43AA-AC75-BD548B49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EFF6-6192-4532-A30C-8A30577167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Health-Process</a:t>
            </a:r>
            <a:br>
              <a:rPr sz="4000"/>
            </a:b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Evidence-Based</a:t>
            </a:r>
            <a:br>
              <a:rPr sz="4000"/>
            </a:b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Clinical Practice Guidelines</a:t>
            </a:r>
            <a:br>
              <a:rPr sz="4000"/>
            </a:b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for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Trauma on Thoracic Area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nathan R. Malabanan M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M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tober 11,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nical Ques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6.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What are reliable signs and symptoms (more than 90% certainty) that will indicate that a patient had penetrating thoracic injur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- presence of paradoxical pul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7. If a paraclinical diagnostic procedure is needed for trauma to the thoracic area, the most cost effective would be: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28600" y="1523880"/>
          <a:ext cx="8591400" cy="4149720"/>
        </p:xfrm>
        <a:graphic>
          <a:graphicData uri="http://schemas.openxmlformats.org/drawingml/2006/table">
            <a:tbl>
              <a:tblPr/>
              <a:tblGrid>
                <a:gridCol w="1828800"/>
                <a:gridCol w="2308320"/>
                <a:gridCol w="1676160"/>
                <a:gridCol w="949320"/>
                <a:gridCol w="1828800"/>
              </a:tblGrid>
              <a:tr h="96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s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il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-R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neumothorax: (+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mothorax:(+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osure to radi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2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ltrasou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neumothorax: (++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mothorax:(+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radiation expos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T-Sc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neumothorax: (+++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mothorax: (+++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osure to radi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6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readily availa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Footer Placeholder 36"/>
          <p:cNvSpPr/>
          <p:nvPr/>
        </p:nvSpPr>
        <p:spPr>
          <a:xfrm>
            <a:off x="49528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ttp://www.diagnosticimaging 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9. What are the goals of treatment for the following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 Penetrating Thoracic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etrating Thoracic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9. What are the goals of treatment for non- penetrating thoracic injury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elimination of 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suturing of wound if pre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care of w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9. What are the goals of treatment for penetrating thoracic injury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care of w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99"/>
                </a:solidFill>
                <a:latin typeface="Arial"/>
              </a:rPr>
              <a:t>GOALS OF TREAT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olution of hemothorax or pneumothor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ll re- expansion of left l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nitor for ongoing blee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buClr>
                <a:srgbClr val="ccffff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hat is the most cost-effective operative treatment for the following?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 Penetrating Thoracic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etrating Thoracic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Arial"/>
              </a:rPr>
              <a:t>Treatment Op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28600" y="1600200"/>
          <a:ext cx="8458200" cy="4708440"/>
        </p:xfrm>
        <a:graphic>
          <a:graphicData uri="http://schemas.openxmlformats.org/drawingml/2006/table">
            <a:tbl>
              <a:tblPr/>
              <a:tblGrid>
                <a:gridCol w="1828800"/>
                <a:gridCol w="1905120"/>
                <a:gridCol w="1600200"/>
                <a:gridCol w="1218960"/>
                <a:gridCol w="1905120"/>
              </a:tblGrid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s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il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be Thoracostom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Complete evacuation of flui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can monitor ongoing bleed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hemosta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jury to adjacent struct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1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oracentes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ful in small hemothora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omplete evac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jury to adjacent struct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actice Level of Evid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ards (I) need to be follow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idelines (II) sugges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tions (III) conside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99"/>
                </a:solidFill>
                <a:latin typeface="Arial"/>
              </a:rPr>
              <a:t>Protocol on CT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proceed to thoracotomy i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 output 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≥ 1000 cc of bl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re is continuous CTT output of more than 150cc/h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Thoracic Traum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. Overview of 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on 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on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General Management Guide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nic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clinic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tocol on Prevention of Posttraumatic Retained Hemothorax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partment of Surgery, OMMC </a:t>
            </a:r>
            <a:br>
              <a:rPr sz="2800"/>
            </a:b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3048120" y="1981080"/>
            <a:ext cx="28954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Hemothor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200400" y="3124080"/>
            <a:ext cx="2590920" cy="457200"/>
          </a:xfrm>
          <a:prstGeom prst="rect">
            <a:avLst/>
          </a:prstGeom>
          <a:solidFill>
            <a:srgbClr val="3366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Times New Roman"/>
              </a:rPr>
              <a:t>CT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304920" y="4343400"/>
            <a:ext cx="2438280" cy="1523880"/>
          </a:xfrm>
          <a:prstGeom prst="rect">
            <a:avLst/>
          </a:prstGeom>
          <a:solidFill>
            <a:srgbClr val="3366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Times New Roman"/>
              </a:rPr>
              <a:t>Thoracoto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Times New Roman"/>
              </a:rPr>
              <a:t>&gt;1 L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Times New Roman"/>
              </a:rPr>
              <a:t>&gt;150cc/hr x 4 h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124080" y="4343400"/>
            <a:ext cx="2743200" cy="1523880"/>
          </a:xfrm>
          <a:prstGeom prst="rect">
            <a:avLst/>
          </a:prstGeom>
          <a:solidFill>
            <a:srgbClr val="3366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Times New Roman"/>
              </a:rPr>
              <a:t>Suc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Times New Roman"/>
              </a:rPr>
              <a:t>&gt;1/3 retain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Times New Roman"/>
              </a:rPr>
              <a:t>Hemothorax by CX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6172200" y="4343400"/>
            <a:ext cx="2666880" cy="1523880"/>
          </a:xfrm>
          <a:prstGeom prst="rect">
            <a:avLst/>
          </a:prstGeom>
          <a:solidFill>
            <a:srgbClr val="3366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Times New Roman"/>
              </a:rPr>
              <a:t>Active Obser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Times New Roman"/>
              </a:rPr>
              <a:t>Gom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Times New Roman"/>
              </a:rPr>
              <a:t>&lt; 1/3 retain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Times New Roman"/>
              </a:rPr>
              <a:t>hemothor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9"/>
          <p:cNvSpPr/>
          <p:nvPr/>
        </p:nvSpPr>
        <p:spPr>
          <a:xfrm>
            <a:off x="4419720" y="2514600"/>
            <a:ext cx="0" cy="457200"/>
          </a:xfrm>
          <a:prstGeom prst="line">
            <a:avLst/>
          </a:prstGeom>
          <a:ln cap="sq"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10"/>
          <p:cNvSpPr/>
          <p:nvPr/>
        </p:nvSpPr>
        <p:spPr>
          <a:xfrm>
            <a:off x="4419720" y="3581280"/>
            <a:ext cx="0" cy="38124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11"/>
          <p:cNvSpPr/>
          <p:nvPr/>
        </p:nvSpPr>
        <p:spPr>
          <a:xfrm>
            <a:off x="1371600" y="3962520"/>
            <a:ext cx="6095880" cy="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12"/>
          <p:cNvSpPr/>
          <p:nvPr/>
        </p:nvSpPr>
        <p:spPr>
          <a:xfrm>
            <a:off x="1371600" y="3962520"/>
            <a:ext cx="0" cy="30456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13"/>
          <p:cNvSpPr/>
          <p:nvPr/>
        </p:nvSpPr>
        <p:spPr>
          <a:xfrm>
            <a:off x="4419720" y="3962520"/>
            <a:ext cx="0" cy="30456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14"/>
          <p:cNvSpPr/>
          <p:nvPr/>
        </p:nvSpPr>
        <p:spPr>
          <a:xfrm>
            <a:off x="7467480" y="3962520"/>
            <a:ext cx="0" cy="30456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-482400" y="6019920"/>
            <a:ext cx="977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riñgan H, Hernandez D, Joson O. Posttraumatic Retained Hemothorax –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idence, Prevention and Management with Suctioning. Published PJSS,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hat is the role of fluid resuscitation prior to surgery in the treatment of significant thoracic injury?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id resuscitation should be given to avoid hypotension (I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99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ttox KL, Allen MK. Systematic approach to pneumothorax, haemothorax, pneumomediastinum and subcutaneous emphysema. Injury. 1986;17:309-312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llon W, Barnosci A, Mancuso C, Injury to the Chest, Complications and Management: Experience at a Level I Trauma Center, Top Emerg Med 199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uriñgan H, Hernandez D, Joson O. Posttraumatic Retained Hemothorax – Incidence, Prevention and Management with Suctioning Published PJSS,200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son R. Management of a Surgical Patient,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nical Ques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cc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What is a operational concept of trauma on the thoracic area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raum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dy injury produced 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dden 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orax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ion of the body betwee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neck and abd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nical Ques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cc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What is a operational concept of “Non- Penetrating Thoracic Injury”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Blunt trauma to the thoracic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nical Ques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cc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What is a operational concept of “Penetrating Thoracic Injury”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Potential surgical pati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cc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ow is thoracic trauma classified in terms of </a:t>
            </a:r>
            <a:r>
              <a:rPr b="0" lang="en-US" sz="3600" spc="-1" strike="noStrike" u="sng">
                <a:solidFill>
                  <a:srgbClr val="ccffff"/>
                </a:solidFill>
                <a:uFillTx/>
                <a:latin typeface="Arial"/>
              </a:rPr>
              <a:t>mechanism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of injur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unt/ non- penetrating trau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netrating trau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nical Ques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nical Ques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5. What are the most common causes of penetrating thoracic injur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sault with sharp obje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unshot Inju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nical Ques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6.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What are reliable signs and symptoms (more than 90% certainty) that will indicate that a patient had penetrating thoracic injur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- difficulty of breath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- decreased breath sounds on the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ffected lung fie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nical Ques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6.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What are reliable signs and symptoms (more than 90% certainty) that will indicate that a patient had penetrating thoracic injur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- tachycar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increased respiratory r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9T13:46:24Z</dcterms:created>
  <dc:creator>Department of Surgery</dc:creator>
  <dc:description/>
  <dc:language>en-US</dc:language>
  <cp:lastModifiedBy>jonathan</cp:lastModifiedBy>
  <dcterms:modified xsi:type="dcterms:W3CDTF">2007-10-11T01:57:50Z</dcterms:modified>
  <cp:revision>81</cp:revision>
  <dc:subject/>
  <dc:title>Health-Process-Evidence-based Clinical Practice Guidelines for  Skin &amp; Soft Tissue Tumors</dc:title>
</cp:coreProperties>
</file>