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9D9C2A-2E90-4B11-8F1A-085E38580B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22A45D-6ABC-49CF-88AB-2895D276B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61546C-64C5-4238-9FB0-41C7D98501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34EFB5-E28B-403F-9B37-6E86C86E72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519252-31B7-4B74-9DB3-52A69FCEF6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76B796-175A-4D0A-9C69-B90D2045D9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7A7427-9581-484C-B7A7-EACD1F8B6D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47C392-7A70-4A40-82B0-916F6BEC7F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FCF146-37CA-426A-8BF5-5CD8040B4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3F7E5-4948-4E32-8790-0820463F6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8E457-0557-4248-AE9D-25EDA2940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13615-9F83-4287-BB2F-1E9D756F0B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269E8-4EBC-46C3-A77F-D093F4B76F19}"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edical Care of Basal Cell CA</a:t>
            </a:r>
            <a:endParaRPr b="0" lang="en-US" sz="4400" spc="-1" strike="noStrike">
              <a:solidFill>
                <a:srgbClr val="ffffff"/>
              </a:solidFill>
              <a:latin typeface="Calibri"/>
            </a:endParaRPr>
          </a:p>
        </p:txBody>
      </p:sp>
      <p:sp>
        <p:nvSpPr>
          <p:cNvPr id="42" name="PlaceHolder 2"/>
          <p:cNvSpPr>
            <a:spLocks noGrp="1"/>
          </p:cNvSpPr>
          <p:nvPr>
            <p:ph type="subTitle"/>
          </p:nvPr>
        </p:nvSpPr>
        <p:spPr>
          <a:xfrm>
            <a:off x="1371600" y="1447920"/>
            <a:ext cx="7238880" cy="4572000"/>
          </a:xfrm>
          <a:prstGeom prst="rect">
            <a:avLst/>
          </a:prstGeom>
          <a:noFill/>
          <a:ln w="0">
            <a:noFill/>
          </a:ln>
        </p:spPr>
        <p:txBody>
          <a:bodyPr anchor="t">
            <a:noAutofit/>
          </a:bodyPr>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 </a:t>
            </a:r>
            <a:r>
              <a:rPr b="0" lang="en-US" sz="4400" spc="-1" strike="noStrike">
                <a:solidFill>
                  <a:srgbClr val="ffffff"/>
                </a:solidFill>
                <a:latin typeface="Arial"/>
                <a:ea typeface="Arial"/>
              </a:rPr>
              <a:t>	</a:t>
            </a:r>
            <a:r>
              <a:rPr b="0" lang="en-US" sz="4400" spc="-1" strike="noStrike">
                <a:solidFill>
                  <a:srgbClr val="ffffff"/>
                </a:solidFill>
                <a:latin typeface="Arial"/>
                <a:ea typeface="Arial"/>
              </a:rPr>
              <a:t>Local therapy with chemotherapeutic and immune-modulating agents is useful in some cases of BCC. </a:t>
            </a:r>
            <a:endParaRPr b="0" lang="en-US" sz="4400" spc="-1" strike="noStrike">
              <a:solidFill>
                <a:srgbClr val="ffffff"/>
              </a:solidFill>
              <a:latin typeface="Calibri"/>
            </a:endParaRPr>
          </a:p>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	</a:t>
            </a:r>
            <a:endParaRPr b="0" lang="en-US" sz="4400" spc="-1" strike="noStrike">
              <a:solidFill>
                <a:srgbClr val="ffffff"/>
              </a:solidFill>
              <a:latin typeface="Calibri"/>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nterferon Alfa- 2b</a:t>
            </a:r>
            <a:endParaRPr b="0" lang="en-US" sz="4400" spc="-1" strike="noStrike">
              <a:solidFill>
                <a:srgbClr val="ffffff"/>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echanism of antitumor activity not clearly understood; however, direct antiproliferative effects against malignant cells and modulation of host immune response may be important. Investigational use for nodular BCC. Used in a randomized, placebo-controlled multicenter study (172 subjects).</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miquimod</a:t>
            </a:r>
            <a:endParaRPr b="0" lang="en-US" sz="4400" spc="-1" strike="noStrike">
              <a:solidFill>
                <a:srgbClr val="ffffff"/>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miquimod (Aldara) -- Precise mechanism for superficial BCC unknown. May increase tumor infiltration of lymphocytes, dendritic cells, and macrophages.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dicated for biopsy-confirmed primary superficial BCC (not on head or neck) in adults with normal immune systems. Tumors must not be &gt;2 cm in diameter on certain areas of body. Indicated only when surgical methods not appropriate.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quamous Cell CA</a:t>
            </a:r>
            <a:endParaRPr b="0" lang="en-US" sz="4400" spc="-1" strike="noStrike">
              <a:solidFill>
                <a:srgbClr val="ffffff"/>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adiotherapy (X-ray treatment) - Radiation treatment can be used for some skin cancers, usually on the face. </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5-Fluorouracil cream This cytotoxic cream applied for several weeks often clears in situ SCC. It causes a vigorous skin reaction that may ulcerate. Sometimes the lesion recurs months or years later, when it may be treated the same way or by another method. </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miquimod Imiquimod is an immune response modifier in a cream base. Applied five times weekly for six to sixteen weeks, it will clear most patches of in situ SCC but is not yet registered for this purpose.</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hotodynamic therapy Photodynamic therapy (PDT) refers to treatment with a photosensitiser (a porphyrin chemical) that is applied to the affected area prior to exposing it to a strong source of visible light. The treated area develops a "burn" and then heals over a couple of weeks or so. Metvix PDT is now available to treat superficial skin cancers in New Zealand.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pic>
        <p:nvPicPr>
          <p:cNvPr id="74"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Radiation therapy </a:t>
            </a:r>
            <a:br>
              <a:rPr sz="4000"/>
            </a:br>
            <a:endParaRPr b="0" lang="en-US" sz="4000" spc="-1" strike="noStrike">
              <a:solidFill>
                <a:srgbClr val="ffffff"/>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Radiation therapy is effective as primary treatment for a variety of BCCs. For most BCCs, cure rates approach 90%. It is especially useful for patients cannot easily tolerate surgery, such as elderly or debilitated individuals</a:t>
            </a:r>
            <a:endParaRPr b="0" lang="en-US" sz="28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Radiation is also an excellent option in patients who refuse surgery because of the size of a lesion or its proximity to vital structures.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mmunomodulators</a:t>
            </a:r>
            <a:endParaRPr b="0" lang="en-US" sz="4400" spc="-1" strike="noStrike">
              <a:solidFill>
                <a:srgbClr val="ffffff"/>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miquimod 5% cream has been used successfully to treat superficial BCCs. Although its exact mode of action in treating BCC is not known, imiquimod is thought to act by modifying the immune response (particularly the cell-mediated immune response) and by stimulating apoptosis in tumor cells. </a:t>
            </a:r>
            <a:endParaRPr b="0" lang="en-US" sz="3200" spc="-1" strike="noStrike">
              <a:solidFill>
                <a:srgbClr val="ffffff"/>
              </a:solidFill>
              <a:latin typeface="Calibri"/>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miquimod</a:t>
            </a:r>
            <a:endParaRPr b="0" lang="en-US" sz="4400" spc="-1" strike="noStrike">
              <a:solidFill>
                <a:srgbClr val="ffffff"/>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uperficial basal carcinoma cure rates of 70-100% should be expected after a 6-week course of 5-times-per-week application, as shown in studies.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5 Fluorouracil</a:t>
            </a:r>
            <a:endParaRPr b="0" lang="en-US" sz="4400" spc="-1" strike="noStrike">
              <a:solidFill>
                <a:srgbClr val="ffffff"/>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opical 5-fluorouracil 5% cream is sometimes used to treat small, superficial BCCs. In properly selected, thin tumors, cure rates of approximately 80% have obtained. </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5 Fluorouracil</a:t>
            </a:r>
            <a:endParaRPr b="0" lang="en-US" sz="4400" spc="-1" strike="noStrike">
              <a:solidFill>
                <a:srgbClr val="ffffff"/>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t is generally applied twice daily and must be used for at least 6 weeks for the treatment of superficial BCC. Percutaneous absorption of 5-fluorouracil is its major limiting factor, as it penetrates only 1 mm into the skin.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5 Fluorouracil</a:t>
            </a:r>
            <a:endParaRPr b="0" lang="en-US" sz="4400" spc="-1" strike="noStrike">
              <a:solidFill>
                <a:srgbClr val="ffffff"/>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5-Fluorouracil (Efudex, Carac, Fluoroplex) -- Used topically to manage superficial BCC (not on head or neck). Interferes with DNA synthesis by blocking methylation of deoxyuridylic acid and inhibiting thymidylate synthetase and, subsequently, cell proliferation.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nterferon Alfa- 2b</a:t>
            </a:r>
            <a:endParaRPr b="0" lang="en-US" sz="4400" spc="-1" strike="noStrike">
              <a:solidFill>
                <a:srgbClr val="ffffff"/>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terferon alfa-2b has shown some success in treating small (&lt;1 cm), nodular, and superficial BCCs. It is administered intralesionally, 3 times per week for 3 weeks. The recommended dose is 1.5 million units per injection (total of 13.5 million units). </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nterferon Alfa- 2b</a:t>
            </a:r>
            <a:endParaRPr b="0" lang="en-US" sz="4400" spc="-1" strike="noStrike">
              <a:solidFill>
                <a:srgbClr val="ffffff"/>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 appropriate BCC tumors, cures rates of up to 80% have been obtained. Interferon has not become a mainstay in BCC treatment because of its cost, the inconvenience of multiple visits, the discomfort of administration, and its adverse effects. Flulike symptoms, which are dose related, are common with the dosages administered to treat BCCs.</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3T21:49:17Z</dcterms:created>
  <dc:creator>EDWN</dc:creator>
  <dc:description/>
  <dc:language>en-US</dc:language>
  <cp:lastModifiedBy>EDWN</cp:lastModifiedBy>
  <dcterms:modified xsi:type="dcterms:W3CDTF">2007-02-23T23:31:20Z</dcterms:modified>
  <cp:revision>7</cp:revision>
  <dc:subject/>
  <dc:title>Slide 1</dc:title>
</cp:coreProperties>
</file>